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29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dt" idx="4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 type="ftr" idx="4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 type="sldNum" idx="5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44D3-75DB-4E11-B17C-06CDFA76D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F9AC-1963-404A-AFC2-CEF37526D3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7D7D-B9C9-4913-AD1F-924D996BB1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5A3C-B387-46D3-9CD4-00D6D0C5C9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487A-C742-41EA-849F-5DAE73BBF6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B8D-4A89-44F0-8017-A4F4596C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55C-CD24-4665-A4DF-41590037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CF148E-FE5B-4AD3-98C6-5B907B2C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21B0BB-9783-47D5-B276-43BBB26B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309CD3-EB7D-4345-B429-4B386C23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81A9D2-FB03-43A6-A60B-F40F0D4B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7E4A41-7064-4A4B-A055-4F8F05A3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9EB024-CE33-4A73-ABA1-4A2E29DC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865D53-E9BE-4A68-B51D-ED7DDE05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4D4282-9788-42D5-B36B-DE07B1D1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5C1E73-DB35-4413-9023-65CDA8FD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EEC81-3C6D-46BF-942A-E625A85B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B15-142C-48BE-82C3-7037B66F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7FAD6-4DED-4ADF-8A1D-15154609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B1BAD-4487-4FF8-966E-DE1A7A08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9EB6B-5645-4C73-995A-5CDD67B5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E6528-B60C-42CF-BC81-296A39B4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C709F-7E54-48A9-9558-6D205512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86785-6D0D-4595-9FCC-926273B5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03769-8001-4D0C-A83C-D96A70FB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59A3C-7848-4927-9713-F434F98E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94E64-4EA5-4E44-BC9A-CCCC7F71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0A15B-1084-405F-941F-BA61F26F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6AF-4D6D-4CDA-AD0D-70490760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9C121-E832-4A35-9B52-B0EF1B7A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C7593-0F7C-40C5-9D8B-4CA11A95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ADC5D-C6B4-4A60-9228-F66D9A70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19B99-104C-41A9-AACB-91FC7710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86BD7-9A60-4B28-9CE6-9510C1B0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A46A7-381B-45B1-9893-319E44C5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3F7F1-F845-4962-812C-7DE9A372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B2F76-263D-4ABF-AC93-9B011536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B2688-0156-4636-BC39-A33262EC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6ADF5-EE10-4D1E-98D8-2860B267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AE9C-D4FF-409C-AEC7-9C4002A8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DD281-47D3-40B7-B32D-17CEF947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75E18-11A7-4178-94A7-EC9BC699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979B4-AA89-4FE4-A41B-089FE95D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55F50E-41D8-4843-AB54-613C8C15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9D7001-BEB6-4F92-A4B5-FD5ECE32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8F1F9A-FE32-4E00-B20D-AAF941D2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937B96-50C3-4ED6-B7F7-9CF38ADE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FC30BE-61F7-4C4F-B5B8-2373CA7D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D887FD-A3DC-4392-ADBE-ADBA906B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4A2917-EADA-4E07-B92C-0F6D14AC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090F-35A0-4119-85D5-005D382A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4AFCBA-A0D1-46C1-8BAF-AE178007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06EFD1-6C63-4D3F-80A3-AE0218B5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38CA7C-27C0-4A7B-B544-A843530F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055249-9780-40C9-BF7E-496F5678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0C31E1-3B9D-46E8-81FC-99743D67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9A8A5-A972-418A-AB30-83860D46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AEE9E-91E2-4896-AE23-575281A3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E3623-DC43-450C-8DBF-BFF46D93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F1744-1F05-40D4-BA23-81D5E149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54A890-3AD8-45BF-B94E-6CC7E553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CE3C-55EE-46A1-A3B6-174E7D79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D05A4-AEEF-4703-878F-6C3257F7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8481A-35D7-45B3-9D48-AEF830EF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B4CD5-C14B-433B-9B29-01D9952C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033C1-7F6A-4C67-9420-7EDE0162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B4628-6E87-42C7-AB70-8C5E7D45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30FED-23A9-4F94-A307-F65F37A2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00F2BC-32E1-4316-902B-9B97E247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11D186-DC7B-4F5F-8F1D-8CB67614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0BAE66-A9FB-4465-9254-085ADFF2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77244A-6E76-45DC-822A-F5DA2726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6B0B-E5FF-442E-B8E8-EC8B15C8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2B4329-5801-4F4D-86A6-32047684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2B868D-EA51-4A5F-8E93-263149DC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12A4DC-1720-46C0-8DFA-FC549BD4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14C87B-D0F5-4644-8E44-281AB77D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462D0F-2FA9-415B-BA16-C7F7589A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BF5566-0E03-4F6B-A1DB-44890DBE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CD4A86-D3FE-4698-A081-F9B33398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402A9E-26B5-484A-8307-B082A451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35314E-0EE6-43CA-85F8-F9508258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2BF1-D6E0-4BD2-9065-1E210C4F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0771-94E4-430C-97D5-72962076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14A0-C241-479B-BD42-62095958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AB5-4887-4CB8-A11E-0F033D6C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09D2-DE1F-4A70-9DB1-9AE0A6FE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47F1-4774-4723-8B42-CAE48D4C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46F6-A7FF-47E6-BE7C-7DB400A3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3C2A-8BA9-4574-9E29-79094E48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F0DB-E4EB-47E6-8910-72A6C02D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4C5-24E6-49DC-AAF4-B2C30FDB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BCF-3092-469A-B661-FB9A2349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C742EB-E7E2-4494-803F-4E334CA2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F8F-8625-4FB7-A6EA-CA078EB1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E4DB3-5A33-4747-A65D-BC0F3DB0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C0C32A-5AEE-47B3-ACBE-367DA491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462E6F-F9C7-4667-99FE-9965218B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FB578-2EFC-424B-81DD-E8C96F77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7CF4A-507C-4805-BB63-E43321B4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ED0BCD-62CD-4ECA-9CBB-E46E5E44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569AB3-AB27-46A7-B359-2F3447E4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0F755A-AA50-482F-B399-9059463E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A20E0F-7960-4402-B0F6-FBFD1FB7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183888-9145-46C5-8D1D-02CBC11E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A70-0C91-4E90-86EB-B8E01C74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B779D7-D4D6-4BDD-BC5B-0BA0E8CF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5A74B7-956B-4F60-A982-AA6C66AC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5CC211-B840-47F9-B11B-5CA43D72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F06150-2D57-4AF0-A574-2F3806B2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2B7B23-0C21-4900-AA7C-D8AA6B48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3FE357-9086-4BCC-8E2C-989A0032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9A67D5-6E72-4AAD-B9D0-19D4A543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40E821-7902-4866-9C6B-010B5938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FAB2B1-BFE8-41DE-A731-F839BC22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13E036-851B-435A-A2A2-B39DCF5B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017-0C6F-4E9F-8525-A1B68214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E71324-119A-47D9-87FA-B2951ACE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AFD96D-A5CE-4BC8-A6A8-5ED21D7C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D84A22-D0A4-48D6-BD7F-2984C237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8DB1AA-1D9E-43B5-A1B2-9EB5228F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B3D916-F614-4BBD-B081-B0A62D59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2C743B-BA77-45D5-94C2-8BE0CFAC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0161A2-E1C3-4ED9-8FFB-5C98B3DD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1DDEDA-DA68-4FF5-9EE5-5190BDBD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CB3BAF-C638-4D54-A95A-D7670A96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9FE600-F30C-4412-8CBF-96120E01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F84-F652-43C9-90AE-43B39876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BA24F8-1433-49F7-9242-40E341FB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6DA109-6EA4-45BC-B425-BB70BDE7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C06203-9E01-4A82-B480-917BC478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F76DBB-352C-44B0-9BA7-AB0D10B6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097E49-4AED-4341-A891-3A1D5478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2C8481-6A4B-4FD4-A494-D1A5925D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80C112-BDD5-4B47-AE71-5B0EB55E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13C891-1D78-4820-841F-8F2700F0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DF2D6F-838C-47D6-947B-E0D3E106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E20302-FD4B-4013-80D9-BE4F20B0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54E-6CF9-45EC-9DF8-DCDF4BF6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209CA0-945A-4D34-850A-4382F4A0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48B648-B2A6-434F-8BC8-278F432E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D08556-CD05-415D-89BB-D3A52EED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60F089-10F5-4AAA-A45B-E9F0CFF5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DA6A72-B503-4B61-9CEA-CEDAEABF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12E68E-E1D8-42CA-85AA-73C3EBC4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D2CACB-C38A-4F80-9B0E-5A354DA0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1E1A03-005B-4C5F-A271-9B9FB23B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2261B4-9246-40A5-A561-3389FBB1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07F993-C9D9-4FD8-92C3-96998E59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51CB-AA9F-469C-B4A3-38B54984E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8767-352A-48B1-A469-F19645F0A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E7ED-2B33-4D62-A474-9D40C2BD7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7918-B4EF-4606-8489-9FF8002E0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008E-2860-4EF9-8046-2F7E2F2AA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33AB-FF94-495D-8D0C-8FE18177F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38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39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ftr" idx="40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41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ftr" idx="42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5BAB-A57E-487E-AE65-BF9B08D55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43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ftr" idx="44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ftr" idx="45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ftr" idx="46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ftr" idx="4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Sherwood0495391840 copy"/>
          <p:cNvPicPr/>
          <p:nvPr/>
        </p:nvPicPr>
        <p:blipFill>
          <a:blip r:embed="rId2"/>
          <a:stretch/>
        </p:blipFill>
        <p:spPr>
          <a:xfrm>
            <a:off x="457200" y="6318360"/>
            <a:ext cx="361800" cy="46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5675-1B45-475D-BF1E-1A6039F3F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7D01-50EC-4226-ACC2-A412A769E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69F3-F286-4055-A7FA-01E816F3C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141F-6507-420D-9140-F3744F84D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DAE7-CB88-4C5D-A841-6FA88A1EB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8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8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Rectangle 2"/>
          <p:cNvGrpSpPr/>
          <p:nvPr/>
        </p:nvGrpSpPr>
        <p:grpSpPr>
          <a:xfrm>
            <a:off x="1395360" y="23760"/>
            <a:ext cx="6194520" cy="1251000"/>
            <a:chOff x="1395360" y="23760"/>
            <a:chExt cx="6194520" cy="1251000"/>
          </a:xfrm>
        </p:grpSpPr>
        <p:pic>
          <p:nvPicPr>
            <p:cNvPr id="1054" name="Rectangle 2" descr=""/>
            <p:cNvPicPr/>
            <p:nvPr/>
          </p:nvPicPr>
          <p:blipFill>
            <a:blip r:embed="rId1"/>
            <a:stretch/>
          </p:blipFill>
          <p:spPr>
            <a:xfrm>
              <a:off x="1395360" y="23760"/>
              <a:ext cx="619452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5" name=""/>
            <p:cNvSpPr/>
            <p:nvPr/>
          </p:nvSpPr>
          <p:spPr>
            <a:xfrm>
              <a:off x="1523880" y="228600"/>
              <a:ext cx="5943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ffff00"/>
                  </a:solidFill>
                  <a:latin typeface="Arial"/>
                </a:rPr>
                <a:t>Pituitary Gland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6" name="Picture 8" descr="glands"/>
          <p:cNvPicPr/>
          <p:nvPr/>
        </p:nvPicPr>
        <p:blipFill>
          <a:blip r:embed="rId2"/>
          <a:srcRect l="5764" t="7593" r="3391" b="3797"/>
          <a:stretch/>
        </p:blipFill>
        <p:spPr>
          <a:xfrm>
            <a:off x="1143000" y="1600200"/>
            <a:ext cx="6629400" cy="464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4" descr=""/>
          <p:cNvPicPr/>
          <p:nvPr/>
        </p:nvPicPr>
        <p:blipFill>
          <a:blip r:embed="rId1"/>
          <a:srcRect l="19924" t="2871" r="19570" b="3073"/>
          <a:stretch/>
        </p:blipFill>
        <p:spPr>
          <a:xfrm>
            <a:off x="5867280" y="304920"/>
            <a:ext cx="312444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8" name="Picture 7" descr="http://www.rci.rutgers.edu/~uzwiak/SysPhys09/SPSpringLect3_files/image004.jpg"/>
          <p:cNvPicPr/>
          <p:nvPr/>
        </p:nvPicPr>
        <p:blipFill>
          <a:blip r:embed="rId2"/>
          <a:stretch/>
        </p:blipFill>
        <p:spPr>
          <a:xfrm>
            <a:off x="152280" y="304920"/>
            <a:ext cx="556272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- ADH (=Vasopressin)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22860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sopres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lso known as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ginine vasopres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VP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antidiuretic horm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is a neurohypophyseal hrm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te of produc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ly supraop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and paraventericular nucle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hypothalam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te of stor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rior pituitary (=neurohypophy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opressins are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consisting of nine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ino acids (nonapeptides)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two primary functions are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n wa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body an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ict blood vess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 txBox="1"/>
          <p:nvPr/>
        </p:nvSpPr>
        <p:spPr>
          <a:xfrm>
            <a:off x="380520" y="76176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sopressin recep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Antidiuresis (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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reabsorption of water by kidne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 urine osmolarity (increased urine concentration) and decreased water excretion b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ermeabilit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l tubules &amp; collecting 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wa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ter reabsorption by passive dif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itle 1"/>
          <p:cNvSpPr/>
          <p:nvPr/>
        </p:nvSpPr>
        <p:spPr>
          <a:xfrm>
            <a:off x="1523880" y="152280"/>
            <a:ext cx="632484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1- ADH (=Vasopressin)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457200" y="1447920"/>
          <a:ext cx="8458200" cy="1625400"/>
        </p:xfrm>
        <a:graphic>
          <a:graphicData uri="http://schemas.openxmlformats.org/drawingml/2006/table">
            <a:tbl>
              <a:tblPr/>
              <a:tblGrid>
                <a:gridCol w="1336680"/>
                <a:gridCol w="2021040"/>
                <a:gridCol w="1942920"/>
                <a:gridCol w="3157560"/>
              </a:tblGrid>
              <a:tr h="3682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1A recep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1B recep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2 recep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lood vess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nterior Pituit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llecting Ducts of  Neph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echan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racellular Ca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A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V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CTH se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ntidiuretic 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 txBox="1"/>
          <p:nvPr/>
        </p:nvSpPr>
        <p:spPr>
          <a:xfrm>
            <a:off x="762120" y="15192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chanism of action of ADH on kidney tubule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2" descr="http://droualb.faculty.mjc.edu/Course%20Materials/Physiology%20101/Chapter%20Notes/Fall%202007/figure_19_10_labeled.jpg"/>
          <p:cNvPicPr/>
          <p:nvPr/>
        </p:nvPicPr>
        <p:blipFill>
          <a:blip r:embed="rId1"/>
          <a:srcRect l="2654" t="1350" r="1771" b="10816"/>
          <a:stretch/>
        </p:blipFill>
        <p:spPr>
          <a:xfrm>
            <a:off x="457200" y="685800"/>
            <a:ext cx="822960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6" name="Rectangle 3"/>
          <p:cNvSpPr/>
          <p:nvPr/>
        </p:nvSpPr>
        <p:spPr>
          <a:xfrm>
            <a:off x="380880" y="5715000"/>
            <a:ext cx="845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chanis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M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ells &amp; Formation of microtubules in cell membra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quaporin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 on Cardiovascular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228600" y="99036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ecrease in blood volume is sufficient to cause release of AD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Vas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ssi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ncreases peripheral vascular resistanc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vas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nstriction) i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rge amounts only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d thus increases arterial blood pressur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effect appears small i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ndividuals; however it becomes an important compensatory mechanism for restoring blood pressure i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ypovolemic shock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ch as that which occurs during hemorrhag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i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1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likely that vasopressin acts in conjunction with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rticotropin-releasing hormone (CRH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to modulate the release of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rticosteroi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from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renal g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in response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articularly during pregnancy and lactation in mamm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itle 1"/>
          <p:cNvSpPr/>
          <p:nvPr/>
        </p:nvSpPr>
        <p:spPr>
          <a:xfrm>
            <a:off x="304920" y="533520"/>
            <a:ext cx="853416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Effect on Central nervous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gulation of AD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04920" y="12193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 algn="just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)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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Osmolality of ECF (e.g.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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salt intake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s ADH release to dilute ECF again to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just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just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2)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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Blood volume (e.g. hemorrhage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equency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hibito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mpulses from volume receptors in heart to supraoptic nuclei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lease of AD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just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3) Renal ischemi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e to hemorrhag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ni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giotensin II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H secretio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ater reabsorp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5867280" cy="76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gulation of AD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304920" y="7621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 algn="just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4) Alcoho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nhibi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H secretio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rked diur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5) Atrial natriuretic peptid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nhibi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H secretion, in part by inhibiting Angiotensin II-induced stimulation of ADH secre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5) Anxiety, Pain &amp; Traum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6) Morphine &amp; Nicot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7) Hot Weathe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Picture 6" descr="http://arbl.cvmbs.colostate.edu/hbooks/pathphys/endocrine/hypopit/adh.gif"/>
          <p:cNvPicPr/>
          <p:nvPr/>
        </p:nvPicPr>
        <p:blipFill>
          <a:blip r:embed="rId1"/>
          <a:stretch/>
        </p:blipFill>
        <p:spPr>
          <a:xfrm>
            <a:off x="6324480" y="3276720"/>
            <a:ext cx="236232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4" descr="http://cvphysiology.com/Blood%20Pressure/BP016%20ADH.png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457200" y="914040"/>
            <a:ext cx="8229600" cy="52117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2" descr=""/>
          <p:cNvPicPr/>
          <p:nvPr/>
        </p:nvPicPr>
        <p:blipFill>
          <a:blip r:embed="rId2"/>
          <a:srcRect l="0" t="2755" r="0" b="0"/>
          <a:stretch/>
        </p:blipFill>
        <p:spPr>
          <a:xfrm>
            <a:off x="152280" y="182520"/>
            <a:ext cx="876312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Rectangle 2"/>
          <p:cNvGrpSpPr/>
          <p:nvPr/>
        </p:nvGrpSpPr>
        <p:grpSpPr>
          <a:xfrm>
            <a:off x="1474920" y="-23760"/>
            <a:ext cx="6346800" cy="998640"/>
            <a:chOff x="1474920" y="-23760"/>
            <a:chExt cx="6346800" cy="998640"/>
          </a:xfrm>
        </p:grpSpPr>
        <p:pic>
          <p:nvPicPr>
            <p:cNvPr id="1058" name="Rectangle 2" descr=""/>
            <p:cNvPicPr/>
            <p:nvPr/>
          </p:nvPicPr>
          <p:blipFill>
            <a:blip r:embed="rId1"/>
            <a:stretch/>
          </p:blipFill>
          <p:spPr>
            <a:xfrm>
              <a:off x="1474920" y="-23760"/>
              <a:ext cx="63468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"/>
            <p:cNvSpPr/>
            <p:nvPr/>
          </p:nvSpPr>
          <p:spPr>
            <a:xfrm>
              <a:off x="1600200" y="152280"/>
              <a:ext cx="6095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Lecture Objectiv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pl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ypothalam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the major integrative site for the neuroendocrin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tras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terior and posterior pituitary lob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ith respect to cell types, vascular supply, development, and innerv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dentify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osterior pituitary hormones (oxytocin &amp; vasopress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ist target tissues f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xytoc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describe its effects on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scribe stimuli and mechanisms that contro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asopress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ecre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sorders of secretion o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betes Insipidus (D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304920" y="1142640"/>
            <a:ext cx="8610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H secretion or a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entral DI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mag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raoptic -hypophyse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by a tum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ephrogenic DI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k of kidney response to AD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V2 receptor defec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nifestations: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yuria (4-6 L/day &amp; may be 15 L/day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oss of fluid in urin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hyd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ydipsia (constant thirst due to dehydratio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reatment: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nthetic vasopressin (nasal spra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Picture 2" descr="http://www.soccerpluseducation.org/images/diabetes-and-black-eyes-37132.jpg"/>
          <p:cNvPicPr/>
          <p:nvPr/>
        </p:nvPicPr>
        <p:blipFill>
          <a:blip r:embed="rId1"/>
          <a:stretch/>
        </p:blipFill>
        <p:spPr>
          <a:xfrm>
            <a:off x="380880" y="457200"/>
            <a:ext cx="403884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2" name="Picture 6" descr="http://humanphysiology.tuars.com/program/section7/7ch08/7ch08img/7c08p42.jpg"/>
          <p:cNvPicPr/>
          <p:nvPr/>
        </p:nvPicPr>
        <p:blipFill>
          <a:blip r:embed="rId2"/>
          <a:stretch/>
        </p:blipFill>
        <p:spPr>
          <a:xfrm>
            <a:off x="4724280" y="457200"/>
            <a:ext cx="403884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91520" cy="1067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yndrome of Inappropriate ADH Secretion (SIAD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auses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DH from brain tumors &amp; lung tumor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DH from posterior pituitary in T.B. &amp; pneumoni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Manifestations: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CF volum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= water intoxication)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oncentration &amp; osmolality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= dilutional hyponatraemia)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acellular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dema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vulsion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ma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udden dea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Treatment: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- Loop diuretics with salin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- 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eceptor antagonis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- Water restriction.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- Demeclocyclin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437920" y="151920"/>
            <a:ext cx="441972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XYTOC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228600" y="837720"/>
            <a:ext cx="86868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d oxytocin was coined from Greek “oxys” and “tokos” mea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quick birth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tocin beca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ptide horm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sequenced or synthesized. Vigneaud was award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b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ze in 1955 for hi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tocin is normally produc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ypothalamus (paraventricular nuclei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or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sterior pituitary 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tocin is a peptide consisting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amino acids (=nonapeptid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r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ation &amp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441972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2- OXYTOCIN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304560" y="68544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C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) On uterus: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mulates pregnant uteru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ring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b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werful contraction and helps delive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2) Primary fertilization of ovum: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xual Stimulat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r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xu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cours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imulation of paraventricular nuclei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xytoci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terine contraction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terine suction of semen upward toward Fallopian tub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4"/>
          <p:cNvSpPr/>
          <p:nvPr/>
        </p:nvSpPr>
        <p:spPr>
          <a:xfrm>
            <a:off x="304920" y="380880"/>
            <a:ext cx="8458200" cy="77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Milk Ejection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Oxytocin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contraction of myoepithelial cells around alveoli of Mammary gland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during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ctation (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tdown reflex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4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Increasing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ternal behavi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Increasing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rust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reducing fear and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uppressing appeti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6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s a medication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it is used to cause contraction of the uterus, which is used to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tart lab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, increase the speed of labor, and to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top bleeding following deliver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YTOCI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4" descr="http://www2.palomar.edu/users/rmorrissette/Lectures/Physio/210Endocrinology_files/slide0127_image013.jpg"/>
          <p:cNvPicPr/>
          <p:nvPr/>
        </p:nvPicPr>
        <p:blipFill>
          <a:blip r:embed="rId1"/>
          <a:stretch/>
        </p:blipFill>
        <p:spPr>
          <a:xfrm>
            <a:off x="228600" y="1143000"/>
            <a:ext cx="541008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2" name="Picture 6" descr="http://intranet.tdmu.edu.ua/data/kafedra/internal/i_nurse/classes_stud/ADN%20Program/Full%20time%20study/Second%20year/nutrition%20and%20diet%20therapy/10.%20Life%20Cycle%20Nutrition%20Pregnancy%20and%20Lactation.files/image053.jpg"/>
          <p:cNvPicPr/>
          <p:nvPr/>
        </p:nvPicPr>
        <p:blipFill>
          <a:blip r:embed="rId2"/>
          <a:stretch/>
        </p:blipFill>
        <p:spPr>
          <a:xfrm>
            <a:off x="5791320" y="1143000"/>
            <a:ext cx="303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457200" y="914040"/>
            <a:ext cx="8229600" cy="5211720"/>
          </a:xfrm>
          <a:prstGeom prst="rect">
            <a:avLst/>
          </a:prstGeom>
          <a:ln w="0">
            <a:noFill/>
          </a:ln>
        </p:spPr>
      </p:pic>
      <p:sp>
        <p:nvSpPr>
          <p:cNvPr id="1125" name="Footer Placeholder 3"/>
          <p:cNvSpPr/>
          <p:nvPr/>
        </p:nvSpPr>
        <p:spPr>
          <a:xfrm>
            <a:off x="457200" y="6305400"/>
            <a:ext cx="830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Picture 2" descr="https://scontent-lga1-1.xx.fbcdn.net/hphotos-xft1/v/t1.0-9/11694845_1015971198421584_5071033471981378091_n.jpg?oh=c6768a9433b1b34ffe9f4419c7eaf00d&amp;oe=56820734"/>
          <p:cNvPicPr/>
          <p:nvPr/>
        </p:nvPicPr>
        <p:blipFill>
          <a:blip r:embed="rId2"/>
          <a:srcRect l="8110" t="11177" r="8110" b="16191"/>
          <a:stretch/>
        </p:blipFill>
        <p:spPr>
          <a:xfrm>
            <a:off x="6172200" y="350532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" descr="https://scontent-lga1-1.xx.fbcdn.net/hphotos-xpa1/v/t1.0-9/11760249_1014758158542888_5433143007019223133_n.jpg?oh=97d564e330624562dc132277bf79537b&amp;oe=5646ACA0"/>
          <p:cNvPicPr/>
          <p:nvPr/>
        </p:nvPicPr>
        <p:blipFill>
          <a:blip r:embed="rId3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2" descr="E:\MCST new new\HANY MCST new\صور و حكم محاضرات\11182234_972034726148565_8388958091086106353_n.jpg"/>
          <p:cNvPicPr/>
          <p:nvPr/>
        </p:nvPicPr>
        <p:blipFill>
          <a:blip r:embed="rId4"/>
          <a:srcRect l="33055" t="29826" r="33339" b="19537"/>
          <a:stretch/>
        </p:blipFill>
        <p:spPr>
          <a:xfrm>
            <a:off x="6172200" y="0"/>
            <a:ext cx="2971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https://fbcdn-sphotos-b-a.akamaihd.net/hphotos-ak-xfp1/v/t1.0-9/12191526_768885859900903_8375571140430087867_n.jpg?oh=be6b2d1b4bf9787e7b0ce667d5ad389c&amp;oe=56C14D76&amp;__gda__=1456500735_4be071f6bee9ecd910b1b95a3904865a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Rectangle 2"/>
          <p:cNvGrpSpPr/>
          <p:nvPr/>
        </p:nvGrpSpPr>
        <p:grpSpPr>
          <a:xfrm>
            <a:off x="328680" y="42840"/>
            <a:ext cx="8480520" cy="1084320"/>
            <a:chOff x="328680" y="42840"/>
            <a:chExt cx="8480520" cy="1084320"/>
          </a:xfrm>
        </p:grpSpPr>
        <p:pic>
          <p:nvPicPr>
            <p:cNvPr id="1062" name="Rectangle 2" descr=""/>
            <p:cNvPicPr/>
            <p:nvPr/>
          </p:nvPicPr>
          <p:blipFill>
            <a:blip r:embed="rId1"/>
            <a:stretch/>
          </p:blipFill>
          <p:spPr>
            <a:xfrm>
              <a:off x="328680" y="42840"/>
              <a:ext cx="84805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>
              <a:off x="457200" y="192240"/>
              <a:ext cx="82296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The pituitary is two fused glan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4" name="Picture 3" descr="18f04"/>
          <p:cNvPicPr/>
          <p:nvPr/>
        </p:nvPicPr>
        <p:blipFill>
          <a:blip r:embed="rId2"/>
          <a:stretch/>
        </p:blipFill>
        <p:spPr>
          <a:xfrm>
            <a:off x="533520" y="1066680"/>
            <a:ext cx="8153280" cy="558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8" descr="http://www.autismpedia.org/wiki/images/e/e5/Pituitary.jpg"/>
          <p:cNvPicPr/>
          <p:nvPr/>
        </p:nvPicPr>
        <p:blipFill>
          <a:blip r:embed="rId1"/>
          <a:srcRect l="0" t="4974" r="0" b="0"/>
          <a:stretch/>
        </p:blipFill>
        <p:spPr>
          <a:xfrm>
            <a:off x="228600" y="228600"/>
            <a:ext cx="868680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6" name="Rectangle 2"/>
          <p:cNvGrpSpPr/>
          <p:nvPr/>
        </p:nvGrpSpPr>
        <p:grpSpPr>
          <a:xfrm>
            <a:off x="328680" y="285840"/>
            <a:ext cx="8480520" cy="1066680"/>
            <a:chOff x="328680" y="285840"/>
            <a:chExt cx="8480520" cy="1066680"/>
          </a:xfrm>
        </p:grpSpPr>
        <p:pic>
          <p:nvPicPr>
            <p:cNvPr id="1067" name="Rectangle 2" descr=""/>
            <p:cNvPicPr/>
            <p:nvPr/>
          </p:nvPicPr>
          <p:blipFill>
            <a:blip r:embed="rId1"/>
            <a:stretch/>
          </p:blipFill>
          <p:spPr>
            <a:xfrm>
              <a:off x="328680" y="285840"/>
              <a:ext cx="84805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457200" y="457200"/>
              <a:ext cx="8229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600"/>
              </a:br>
              <a:r>
                <a:rPr b="1" lang="en-US" sz="4000" spc="-1" strike="noStrike">
                  <a:solidFill>
                    <a:srgbClr val="ffff00"/>
                  </a:solidFill>
                  <a:latin typeface="Arial"/>
                  <a:ea typeface="Arial"/>
                </a:rPr>
                <a:t>Pituitary Gland (Hypophysis)</a:t>
              </a:r>
              <a:br>
                <a:rPr sz="4000"/>
              </a:br>
              <a:r>
                <a:rPr b="1" lang="en-US" sz="2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1792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a siz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of glandular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1792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a turc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1792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lender stal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Infundibulum connects pituitary gland to hypothala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1792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 par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Posterior pituitary (=neurohypoph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osed of nervous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nterior pituitary (=adenohypoph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sts of glandular epithelial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Rectangle 2"/>
          <p:cNvGrpSpPr/>
          <p:nvPr/>
        </p:nvGrpSpPr>
        <p:grpSpPr>
          <a:xfrm>
            <a:off x="858960" y="49320"/>
            <a:ext cx="7188120" cy="1150920"/>
            <a:chOff x="858960" y="49320"/>
            <a:chExt cx="7188120" cy="1150920"/>
          </a:xfrm>
        </p:grpSpPr>
        <p:pic>
          <p:nvPicPr>
            <p:cNvPr id="1071" name="Rectangle 2" descr=""/>
            <p:cNvPicPr/>
            <p:nvPr/>
          </p:nvPicPr>
          <p:blipFill>
            <a:blip r:embed="rId1"/>
            <a:stretch/>
          </p:blipFill>
          <p:spPr>
            <a:xfrm>
              <a:off x="858960" y="49320"/>
              <a:ext cx="71881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>
              <a:off x="990720" y="228600"/>
              <a:ext cx="6933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Pituitary Gland Secretion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6629400" cy="55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Anterior Pituitary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ecretes</a:t>
            </a:r>
            <a:endParaRPr b="0" lang="en-US" sz="28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wth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G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lactin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PRL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yroi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imulating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TS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reno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tico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pic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ACT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llicl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imulating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FS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teinizing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L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0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Posterior Pituitary: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ecretes</a:t>
            </a:r>
            <a:endParaRPr b="0" lang="en-US" sz="28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Vasopressin (ADH)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Oxytocin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</p:txBody>
      </p:sp>
      <p:pic>
        <p:nvPicPr>
          <p:cNvPr id="1074" name="Picture 7" descr="https://bohone09.wikispaces.com/file/view/Pituitary_gland_ant_%26_post.gif/84150015/433x284/Pituitary_gland_ant_%26_post.gif"/>
          <p:cNvPicPr/>
          <p:nvPr/>
        </p:nvPicPr>
        <p:blipFill>
          <a:blip r:embed="rId2"/>
          <a:stretch/>
        </p:blipFill>
        <p:spPr>
          <a:xfrm>
            <a:off x="6421320" y="1676520"/>
            <a:ext cx="27432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198360" y="2352600"/>
            <a:ext cx="8686800" cy="27813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" descr="https://s-media-cache-ak0.pinimg.com/736x/ed/60/0a/ed600a12c91578e82dc02f5eb2a63171.jpg"/>
          <p:cNvPicPr/>
          <p:nvPr/>
        </p:nvPicPr>
        <p:blipFill>
          <a:blip r:embed="rId2"/>
          <a:srcRect l="0" t="3333" r="0" b="5559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Rectangle 2"/>
          <p:cNvGrpSpPr/>
          <p:nvPr/>
        </p:nvGrpSpPr>
        <p:grpSpPr>
          <a:xfrm>
            <a:off x="-55440" y="115920"/>
            <a:ext cx="9296280" cy="1084320"/>
            <a:chOff x="-55440" y="115920"/>
            <a:chExt cx="9296280" cy="1084320"/>
          </a:xfrm>
        </p:grpSpPr>
        <p:pic>
          <p:nvPicPr>
            <p:cNvPr id="1079" name="Rectangle 2" descr=""/>
            <p:cNvPicPr/>
            <p:nvPr/>
          </p:nvPicPr>
          <p:blipFill>
            <a:blip r:embed="rId1"/>
            <a:stretch/>
          </p:blipFill>
          <p:spPr>
            <a:xfrm>
              <a:off x="-55440" y="115920"/>
              <a:ext cx="929628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228600" y="228600"/>
              <a:ext cx="87631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I. Posterior Pituitary </a:t>
              </a:r>
              <a:r>
                <a:rPr b="1" lang="en-US" sz="3300" spc="-1" strike="noStrike">
                  <a:solidFill>
                    <a:srgbClr val="ffff00"/>
                  </a:solidFill>
                  <a:latin typeface="Arial"/>
                  <a:ea typeface="Arial"/>
                </a:rPr>
                <a:t>(=Neurohypophysis)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/>
          </p:nvPr>
        </p:nvSpPr>
        <p:spPr>
          <a:xfrm>
            <a:off x="-228600" y="990360"/>
            <a:ext cx="9220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long with hypothalamus forms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euroendocrin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es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ctually produce any horm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DH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amp;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Oxytocin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forme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mainly in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upraoptic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paraventricula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nuclei in hypothalamus respectively.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Transporte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s granules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pothalamo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pophyseal Nervous 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Stores  &amp; release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o small peptide hormones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9 A.A.)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1- Vasopressin (ADH)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serves water during urine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- Oxytocin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imulates uterine contraction during child-birth and milk ejection during breast-fee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Rectangle 2"/>
          <p:cNvGrpSpPr/>
          <p:nvPr/>
        </p:nvGrpSpPr>
        <p:grpSpPr>
          <a:xfrm>
            <a:off x="-55440" y="115920"/>
            <a:ext cx="9169200" cy="1388880"/>
            <a:chOff x="-55440" y="115920"/>
            <a:chExt cx="9169200" cy="1388880"/>
          </a:xfrm>
        </p:grpSpPr>
        <p:pic>
          <p:nvPicPr>
            <p:cNvPr id="1083" name="Rectangle 2" descr=""/>
            <p:cNvPicPr/>
            <p:nvPr/>
          </p:nvPicPr>
          <p:blipFill>
            <a:blip r:embed="rId1"/>
            <a:stretch/>
          </p:blipFill>
          <p:spPr>
            <a:xfrm>
              <a:off x="-55440" y="115920"/>
              <a:ext cx="916920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4" name=""/>
            <p:cNvSpPr/>
            <p:nvPr/>
          </p:nvSpPr>
          <p:spPr>
            <a:xfrm>
              <a:off x="152280" y="228600"/>
              <a:ext cx="8763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00"/>
                  </a:solidFill>
                  <a:latin typeface="Georgia"/>
                  <a:ea typeface="Arial"/>
                </a:rPr>
                <a:t>Relationship of  Hypothalamus &amp; Posterior Pituitary</a:t>
              </a:r>
              <a:br>
                <a:rPr sz="2500"/>
              </a:br>
              <a:r>
                <a:rPr b="1" lang="en-US" sz="2800" spc="-1" strike="noStrike">
                  <a:solidFill>
                    <a:srgbClr val="ffff00"/>
                  </a:solidFill>
                  <a:latin typeface="Georgia"/>
                  <a:ea typeface="Arial"/>
                </a:rPr>
                <a:t>(Hypothalamo-Hypophyseal Nervous Trac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4800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8952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opressin &amp; oxytocin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ynthesized in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raoptic &amp; paraventricula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clei in the hypothalamu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9520" indent="0" algn="just">
              <a:lnSpc>
                <a:spcPct val="5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9520" indent="-38952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rmone travels down the axon to be stored in the neuronal terminals within the posterior pituitar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9520" indent="0" algn="just">
              <a:lnSpc>
                <a:spcPct val="5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9520" indent="-38952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xcitation of the neuron, the stored hormone is released from these terminals into the systemic blood for distribution throughout the bod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Picture 5" descr=""/>
          <p:cNvPicPr/>
          <p:nvPr/>
        </p:nvPicPr>
        <p:blipFill>
          <a:blip r:embed="rId2"/>
          <a:srcRect l="0" t="0" r="0" b="31074"/>
          <a:stretch/>
        </p:blipFill>
        <p:spPr>
          <a:xfrm>
            <a:off x="5105520" y="1523880"/>
            <a:ext cx="3809880" cy="510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20:15:10Z</dcterms:created>
  <dc:creator>User</dc:creator>
  <dc:description/>
  <dc:language>en-US</dc:language>
  <cp:lastModifiedBy>Dell</cp:lastModifiedBy>
  <dcterms:modified xsi:type="dcterms:W3CDTF">2015-12-14T07:18:13Z</dcterms:modified>
  <cp:revision>135</cp:revision>
  <dc:subject/>
  <dc:title>Slide 1</dc:title>
</cp:coreProperties>
</file>